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D48-1446-4B93-90A8-D412BC66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478-E60B-41B7-8A97-5613D37A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E94-B249-44CC-AA78-1EB360A2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1D3-D3CD-4F06-8426-01664F3E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865-0329-427E-8CE6-1508A783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734-F39C-44B6-81E5-D9A9BC5C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AED-DCB0-4E65-BB2D-A55EC780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BE0-C4A1-41F2-9691-1089B15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DC7-EF4E-4BFC-B484-74B8F20D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A92-4361-48A4-8146-DA4E2C2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436-24A9-4C65-B687-FBED5FC3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690-ED52-4F28-8C7E-AE07D9B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14A6-6C13-423A-B8DF-55AC1935C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389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397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406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495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513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518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536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562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582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622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625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628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632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636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639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654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874800" y="411120"/>
            <a:ext cx="7084080" cy="5927760"/>
            <a:chOff x="874800" y="411120"/>
            <a:chExt cx="7084080" cy="5927760"/>
          </a:xfrm>
        </p:grpSpPr>
        <p:grpSp>
          <p:nvGrpSpPr>
            <p:cNvPr id="659" name=""/>
            <p:cNvGrpSpPr/>
            <p:nvPr/>
          </p:nvGrpSpPr>
          <p:grpSpPr>
            <a:xfrm>
              <a:off x="1233000" y="581760"/>
              <a:ext cx="93600" cy="2211480"/>
              <a:chOff x="1233000" y="581760"/>
              <a:chExt cx="93600" cy="2211480"/>
            </a:xfrm>
          </p:grpSpPr>
          <p:sp>
            <p:nvSpPr>
              <p:cNvPr id="660" name=""/>
              <p:cNvSpPr/>
              <p:nvPr/>
            </p:nvSpPr>
            <p:spPr>
              <a:xfrm>
                <a:off x="1276920" y="661320"/>
                <a:ext cx="1440" cy="2131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33000" y="58176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1259280" y="2750760"/>
              <a:ext cx="4731840" cy="87480"/>
              <a:chOff x="1259280" y="2750760"/>
              <a:chExt cx="4731840" cy="87480"/>
            </a:xfrm>
          </p:grpSpPr>
          <p:sp>
            <p:nvSpPr>
              <p:cNvPr id="663" name=""/>
              <p:cNvSpPr/>
              <p:nvPr/>
            </p:nvSpPr>
            <p:spPr>
              <a:xfrm flipH="1">
                <a:off x="1259280" y="2793600"/>
                <a:ext cx="4646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97160" y="2750760"/>
                <a:ext cx="9396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276920" y="1876320"/>
              <a:ext cx="2044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21000" y="1876320"/>
              <a:ext cx="1801440" cy="91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224000" y="825840"/>
              <a:ext cx="437400" cy="7920"/>
              <a:chOff x="1224000" y="825840"/>
              <a:chExt cx="437400" cy="7920"/>
            </a:xfrm>
          </p:grpSpPr>
          <p:sp>
            <p:nvSpPr>
              <p:cNvPr id="668" name=""/>
              <p:cNvSpPr/>
              <p:nvPr/>
            </p:nvSpPr>
            <p:spPr>
              <a:xfrm>
                <a:off x="1652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635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1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99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81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56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5444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26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09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91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7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455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38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20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02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84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67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29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12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294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76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59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416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240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233000" y="3734640"/>
              <a:ext cx="93600" cy="2211840"/>
              <a:chOff x="1233000" y="3734640"/>
              <a:chExt cx="93600" cy="2211840"/>
            </a:xfrm>
          </p:grpSpPr>
          <p:sp>
            <p:nvSpPr>
              <p:cNvPr id="694" name=""/>
              <p:cNvSpPr/>
              <p:nvPr/>
            </p:nvSpPr>
            <p:spPr>
              <a:xfrm>
                <a:off x="1276920" y="3814200"/>
                <a:ext cx="1440" cy="2132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233000" y="373464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092200" y="5909040"/>
              <a:ext cx="889560" cy="87480"/>
              <a:chOff x="5092200" y="5909040"/>
              <a:chExt cx="889560" cy="87480"/>
            </a:xfrm>
          </p:grpSpPr>
          <p:sp>
            <p:nvSpPr>
              <p:cNvPr id="697" name=""/>
              <p:cNvSpPr/>
              <p:nvPr/>
            </p:nvSpPr>
            <p:spPr>
              <a:xfrm flipH="1" flipV="1">
                <a:off x="5092200" y="5947200"/>
                <a:ext cx="8046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88160" y="5909040"/>
                <a:ext cx="9360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276920" y="4050000"/>
              <a:ext cx="1999800" cy="187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012840" y="5774400"/>
              <a:ext cx="563040" cy="7920"/>
              <a:chOff x="3012840" y="5774400"/>
              <a:chExt cx="563040" cy="7920"/>
            </a:xfrm>
          </p:grpSpPr>
          <p:sp>
            <p:nvSpPr>
              <p:cNvPr id="701" name=""/>
              <p:cNvSpPr/>
              <p:nvPr/>
            </p:nvSpPr>
            <p:spPr>
              <a:xfrm>
                <a:off x="356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549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301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5125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948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7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59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41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23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05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88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70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353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333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315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297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280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262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245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27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209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91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173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56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6680" y="577440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19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101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083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65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48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304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0128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236600" y="4058280"/>
              <a:ext cx="438840" cy="7920"/>
              <a:chOff x="1236600" y="4058280"/>
              <a:chExt cx="438840" cy="7920"/>
            </a:xfrm>
          </p:grpSpPr>
          <p:sp>
            <p:nvSpPr>
              <p:cNvPr id="734" name=""/>
              <p:cNvSpPr/>
              <p:nvPr/>
            </p:nvSpPr>
            <p:spPr>
              <a:xfrm>
                <a:off x="1666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473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297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11720" y="405828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940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764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58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540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3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05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87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70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50440" y="40582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32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15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97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79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362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44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26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08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290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733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54240" y="405828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36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3092760" y="5749560"/>
              <a:ext cx="63360" cy="54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97400" y="67464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50320" y="70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84960" y="79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88840" y="411120"/>
              <a:ext cx="3117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41040" y="44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6400" y="532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41080" y="1068120"/>
              <a:ext cx="242640" cy="263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41880" y="10299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62240" y="289872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41800" y="2931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3360" y="30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65320" y="2846880"/>
              <a:ext cx="272880" cy="27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53880" y="2880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35960" y="1549440"/>
              <a:ext cx="1027800" cy="260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61520" y="15840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44400" y="1667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08120" y="1584000"/>
              <a:ext cx="34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93960" y="1667160"/>
              <a:ext cx="20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4800" y="361872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51120" y="365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12680" y="3734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62240" y="603828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41800" y="6069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03360" y="6156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42720" y="6013440"/>
              <a:ext cx="5230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6680" y="6046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8600" y="6131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53880" y="6000480"/>
              <a:ext cx="5223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47480" y="6035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209760" y="61182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18280" y="5942160"/>
              <a:ext cx="1583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24840" y="5552280"/>
              <a:ext cx="5245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14120" y="5590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76040" y="56746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51280" y="6000480"/>
              <a:ext cx="2728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41280" y="6035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38080" y="3814560"/>
              <a:ext cx="1480320" cy="527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1807200" y="3837960"/>
              <a:ext cx="1359000" cy="461520"/>
              <a:chOff x="1807200" y="3837960"/>
              <a:chExt cx="1359000" cy="461520"/>
            </a:xfrm>
          </p:grpSpPr>
          <p:sp>
            <p:nvSpPr>
              <p:cNvPr id="798" name=""/>
              <p:cNvSpPr/>
              <p:nvPr/>
            </p:nvSpPr>
            <p:spPr>
              <a:xfrm>
                <a:off x="1807560" y="4089960"/>
                <a:ext cx="67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80720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19852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093400" y="411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701440" y="3981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62320" y="3947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793600" y="4069800"/>
                <a:ext cx="37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957320" y="3947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98764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74680" y="3837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9800" y="3960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1852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7836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1276920" y="5947200"/>
              <a:ext cx="225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750480" y="4627800"/>
              <a:ext cx="9162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97000" y="470232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3436560" y="4514760"/>
              <a:ext cx="1564920" cy="140760"/>
              <a:chOff x="3436560" y="4514760"/>
              <a:chExt cx="1564920" cy="140760"/>
            </a:xfrm>
          </p:grpSpPr>
          <p:sp>
            <p:nvSpPr>
              <p:cNvPr id="815" name=""/>
              <p:cNvSpPr/>
              <p:nvPr/>
            </p:nvSpPr>
            <p:spPr>
              <a:xfrm>
                <a:off x="3571200" y="4586040"/>
                <a:ext cx="1297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436560" y="4514760"/>
                <a:ext cx="143280" cy="13752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59640" y="4518000"/>
                <a:ext cx="141840" cy="13752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205960" y="641520"/>
              <a:ext cx="2752920" cy="1353240"/>
              <a:chOff x="5205960" y="641520"/>
              <a:chExt cx="2752920" cy="135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6507360" y="1406520"/>
                <a:ext cx="400320" cy="253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29560" y="1968480"/>
                <a:ext cx="726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746680" y="929880"/>
                <a:ext cx="435960" cy="167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168240" y="1012680"/>
                <a:ext cx="186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5533560" y="1012680"/>
                <a:ext cx="217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12200" y="1140840"/>
                <a:ext cx="310320" cy="31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6260760" y="1454040"/>
                <a:ext cx="276480" cy="142920"/>
                <a:chOff x="6260760" y="1454040"/>
                <a:chExt cx="276480" cy="1429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6290280" y="159624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37524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283080" y="145476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626076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83240" y="1454040"/>
                  <a:ext cx="5400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290920" y="1016280"/>
                <a:ext cx="2462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3160" y="101628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68760" y="1016280"/>
                <a:ext cx="248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383160" y="1262880"/>
                <a:ext cx="360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6383160" y="1591560"/>
                <a:ext cx="3600" cy="36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58880" y="1968480"/>
                <a:ext cx="1527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78080" y="1937160"/>
                <a:ext cx="6228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5960" y="1937160"/>
                <a:ext cx="6156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5960" y="984600"/>
                <a:ext cx="6156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6616800" y="1012680"/>
                <a:ext cx="184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76640" y="984600"/>
                <a:ext cx="6372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244840" y="1109160"/>
                <a:ext cx="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814080" y="1109160"/>
                <a:ext cx="288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443360" y="1273680"/>
                <a:ext cx="160920" cy="44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523280" y="1703160"/>
                <a:ext cx="1440" cy="26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7523280" y="1016280"/>
                <a:ext cx="1440" cy="262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50720" y="1339920"/>
                <a:ext cx="308160" cy="313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45760" y="1016280"/>
                <a:ext cx="725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38600" y="1671840"/>
                <a:ext cx="14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338600" y="1875960"/>
                <a:ext cx="217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7338600" y="1218240"/>
                <a:ext cx="386280" cy="47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502040" y="1844280"/>
                <a:ext cx="61560" cy="576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60920" y="1062720"/>
                <a:ext cx="24804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83080" y="641520"/>
                <a:ext cx="24624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44720" y="641520"/>
                <a:ext cx="24840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04960" y="1328040"/>
                <a:ext cx="29268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91840" y="1344600"/>
                <a:ext cx="294120" cy="3301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 flipV="1">
              <a:off x="3277080" y="1876320"/>
              <a:ext cx="0" cy="4062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92560" y="2792520"/>
              <a:ext cx="0" cy="3146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571400" y="2028960"/>
              <a:ext cx="1082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03840" y="195444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1271880" y="773640"/>
              <a:ext cx="1990800" cy="10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52200" y="1318680"/>
              <a:ext cx="2412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43320" y="2729160"/>
              <a:ext cx="95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0 </a:t>
              </a: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ff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67200" y="1716840"/>
              <a:ext cx="510480" cy="98244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238720" y="3565440"/>
            <a:ext cx="409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/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1108080" y="1098720"/>
                <a:ext cx="3419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116000" y="2978280"/>
                <a:ext cx="3195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84320" y="2004840"/>
                <a:ext cx="3314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87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87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177920" y="3956040"/>
                <a:ext cx="1328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7402680" y="2227320"/>
            <a:ext cx="564840" cy="1388880"/>
          </a:xfrm>
          <a:custGeom>
            <a:avLst/>
            <a:gdLst/>
            <a:ahLst/>
            <a:rect l="l" t="t" r="r" b="b"/>
            <a:pathLst>
              <a:path w="356" h="875">
                <a:moveTo>
                  <a:pt x="356" y="875"/>
                </a:moveTo>
                <a:lnTo>
                  <a:pt x="35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17320" y="36752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919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928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938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941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952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956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962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965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995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6240" y="3541680"/>
              <a:ext cx="398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1004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1005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1149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1162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1166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1170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1176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1182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1185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1206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1228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1239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321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3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384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447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653400" y="5678640"/>
            <a:ext cx="3626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ększona obciążal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mniejszo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otnie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93960" y="2895480"/>
            <a:ext cx="863640" cy="1338480"/>
          </a:xfrm>
          <a:custGeom>
            <a:avLst/>
            <a:gdLst/>
            <a:ahLst/>
            <a:rect l="l" t="t" r="r" b="b"/>
            <a:pathLst>
              <a:path w="544" h="843">
                <a:moveTo>
                  <a:pt x="544" y="843"/>
                </a:moveTo>
                <a:lnTo>
                  <a:pt x="5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331160" y="4178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551240" y="4397400"/>
            <a:ext cx="16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719280" y="1533600"/>
            <a:ext cx="3168360" cy="1969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4900680" y="1504800"/>
            <a:ext cx="3351240" cy="207360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839880" y="4241880"/>
            <a:ext cx="3124080" cy="192096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837360" y="33354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N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634280" y="34495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 Low-dropout regulator (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86800" y="61628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PNP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Y STABILIZATORÓW KOMPENSACYJNYCH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87520" y="11286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853240" y="1546200"/>
            <a:ext cx="2714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450800" y="1550880"/>
            <a:ext cx="1433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612440" y="4233960"/>
            <a:ext cx="7779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87440" y="109044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2*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694480" y="1101600"/>
            <a:ext cx="180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465200" y="378000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10120" y="90504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719360" y="329076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066000" y="338148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752480" y="5970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839600" y="294948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557760" y="30272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177640" y="5649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4"/>
          <a:stretch/>
        </p:blipFill>
        <p:spPr>
          <a:xfrm>
            <a:off x="5097600" y="4132440"/>
            <a:ext cx="3281400" cy="191916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/>
          <p:nvPr/>
        </p:nvSpPr>
        <p:spPr>
          <a:xfrm>
            <a:off x="5214240" y="613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FET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284880" y="5862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10040" y="5541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163440" y="1373040"/>
            <a:ext cx="4229280" cy="503244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456080" y="1704960"/>
            <a:ext cx="4121280" cy="406728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4149720" cy="337500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2"/>
          <a:stretch/>
        </p:blipFill>
        <p:spPr>
          <a:xfrm>
            <a:off x="4665600" y="527040"/>
            <a:ext cx="4303800" cy="435924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3"/>
          <a:stretch/>
        </p:blipFill>
        <p:spPr>
          <a:xfrm>
            <a:off x="4514760" y="4189320"/>
            <a:ext cx="1833480" cy="240984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4"/>
          <a:stretch/>
        </p:blipFill>
        <p:spPr>
          <a:xfrm>
            <a:off x="450720" y="4268880"/>
            <a:ext cx="1733760" cy="205740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5"/>
          <a:stretch/>
        </p:blipFill>
        <p:spPr>
          <a:xfrm>
            <a:off x="606600" y="4006800"/>
            <a:ext cx="1695240" cy="2286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6"/>
          <a:stretch/>
        </p:blipFill>
        <p:spPr>
          <a:xfrm>
            <a:off x="2400480" y="4799160"/>
            <a:ext cx="2106360" cy="144612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7"/>
          <a:stretch/>
        </p:blipFill>
        <p:spPr>
          <a:xfrm>
            <a:off x="2590920" y="4481640"/>
            <a:ext cx="1780920" cy="247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4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1733400" y="1057320"/>
            <a:ext cx="6635880" cy="5141880"/>
            <a:chOff x="1733400" y="1057320"/>
            <a:chExt cx="6635880" cy="5141880"/>
          </a:xfrm>
        </p:grpSpPr>
        <p:grpSp>
          <p:nvGrpSpPr>
            <p:cNvPr id="1511" name=""/>
            <p:cNvGrpSpPr/>
            <p:nvPr/>
          </p:nvGrpSpPr>
          <p:grpSpPr>
            <a:xfrm>
              <a:off x="2832120" y="1057320"/>
              <a:ext cx="1706400" cy="514440"/>
              <a:chOff x="2832120" y="1057320"/>
              <a:chExt cx="1706400" cy="514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2836800" y="1062000"/>
                <a:ext cx="1697040" cy="5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32120" y="10620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32120" y="10987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32120" y="11174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32120" y="11541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32120" y="11714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32120" y="12096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832120" y="12272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832120" y="12636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32120" y="12826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32120" y="13190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832120" y="13381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32120" y="13748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32120" y="139212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32120" y="1430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832120" y="1447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832120" y="1484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32120" y="15033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832120" y="1539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832120" y="155880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5" y="8"/>
                    </a:lnTo>
                    <a:lnTo>
                      <a:pt x="15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8656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828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9192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9383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750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9941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304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0481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086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035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1399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1590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1957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2148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2511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2688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306600" y="156384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3242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3606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3796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4164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354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4718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894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527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449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812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003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370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56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925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7116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47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656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01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8210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8577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876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132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322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686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862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02444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41720" y="1563840"/>
                <a:ext cx="288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0784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097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1338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1529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1893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2069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24512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2624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2991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317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3545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3736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4100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4276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4658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4830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5194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29160" y="15350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529160" y="15177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529160" y="147960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529160" y="14619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529160" y="14256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529160" y="1406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529160" y="13701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529160" y="1351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529160" y="13143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529160" y="12970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529160" y="1258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529160" y="124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529160" y="12049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529160" y="1185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529160" y="11494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529160" y="11304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529160" y="109368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29160" y="1076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511520" y="10573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1" y="6"/>
                    </a:moveTo>
                    <a:lnTo>
                      <a:pt x="17" y="6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4928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560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4370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006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3830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3448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3275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2908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2721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2354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2163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99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608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1241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10688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070520" y="1057320"/>
                <a:ext cx="266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0514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0147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9564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592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402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0384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862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8480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307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7940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7749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7386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7195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8316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655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273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100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5733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542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5179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4988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4624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4448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40668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3894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3526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3336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2972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2781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2418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2227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8600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687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1320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1129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65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574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211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020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96532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9480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90988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8926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558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368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3344040" y="1093680"/>
              <a:ext cx="81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zeregow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2819520" y="1617840"/>
              <a:ext cx="1392120" cy="1238040"/>
              <a:chOff x="2819520" y="1617840"/>
              <a:chExt cx="1392120" cy="1238040"/>
            </a:xfrm>
          </p:grpSpPr>
          <p:sp>
            <p:nvSpPr>
              <p:cNvPr id="1675" name=""/>
              <p:cNvSpPr/>
              <p:nvPr/>
            </p:nvSpPr>
            <p:spPr>
              <a:xfrm>
                <a:off x="2822400" y="1622520"/>
                <a:ext cx="1384560" cy="122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19520" y="16225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19520" y="1658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819520" y="16779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19520" y="1714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819520" y="17334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19520" y="17701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19520" y="17892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19520" y="1825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19520" y="1843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9520" y="1881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19520" y="1898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19520" y="1935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19520" y="19540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19520" y="1990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19520" y="20098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19520" y="2046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19520" y="2063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9520" y="210168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19520" y="21193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819520" y="21556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19520" y="21747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819520" y="2211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19520" y="2230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19520" y="2266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19520" y="2284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19520" y="2322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19520" y="23400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19520" y="23763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19520" y="2395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819520" y="2432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819520" y="2451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819520" y="24876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819520" y="2505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819520" y="2543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19520" y="25606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19520" y="25970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819520" y="2616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819520" y="2652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19520" y="2671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19520" y="27082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19520" y="27273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819520" y="27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819520" y="2781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19520" y="28177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19520" y="28368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8465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865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019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1924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559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9750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0114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0304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0672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086280" y="284652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122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13992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176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1957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2320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2511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2878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306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33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36060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3987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41640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527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4718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5082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272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5640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58128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1944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3708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734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925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288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7479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846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0196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84012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85776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9412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9132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9495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9686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0053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0244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0608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07844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1148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1338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1702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189320" y="28414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3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28224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3720" y="27860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3720" y="2768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03720" y="27306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03720" y="27129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03720" y="26766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03720" y="2657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03720" y="2620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03720" y="26020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03720" y="2565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03720" y="254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03720" y="25099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03720" y="2492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03720" y="2455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03720" y="2436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03720" y="2400480"/>
                <a:ext cx="792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03720" y="23814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03720" y="23446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03720" y="2325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03720" y="2289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03720" y="2271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03720" y="2235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03720" y="2216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03720" y="2179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03720" y="21607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03720" y="21240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03720" y="2104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03720" y="2068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03720" y="2050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03720" y="2014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03720" y="1995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03720" y="1959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203720" y="1940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203720" y="19033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03720" y="1884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203720" y="1847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203720" y="1830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203720" y="17924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203720" y="17748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203720" y="1738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203720" y="17193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203720" y="1682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203720" y="1663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203720" y="1627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1940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1576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1385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022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831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464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0273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909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97368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9369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9178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8815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8624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8257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8070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7702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75300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71484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6972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6608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6417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605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5863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549600" y="161784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53232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4941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4765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4401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210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384720" y="161784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3656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3289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31164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2734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25584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21948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004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164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1449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1082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0891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05280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03516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988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9797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433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9242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8875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8684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83212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2625840" y="2887560"/>
              <a:ext cx="22302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685240" y="2919240"/>
              <a:ext cx="207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Wzmacniacz sygnału błęd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37240" y="3348000"/>
              <a:ext cx="16128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821840" y="3173400"/>
              <a:ext cx="137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kład próbkując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11080" y="3348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135240" y="3282840"/>
              <a:ext cx="1058760" cy="657360"/>
              <a:chOff x="3135240" y="3282840"/>
              <a:chExt cx="1058760" cy="657360"/>
            </a:xfrm>
          </p:grpSpPr>
          <p:sp>
            <p:nvSpPr>
              <p:cNvPr id="1871" name=""/>
              <p:cNvSpPr/>
              <p:nvPr/>
            </p:nvSpPr>
            <p:spPr>
              <a:xfrm>
                <a:off x="3139920" y="3287880"/>
                <a:ext cx="104940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135240" y="3287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135240" y="3324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135240" y="33433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135240" y="3379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5240" y="3397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35240" y="3435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135240" y="34527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35240" y="3489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135240" y="35082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135240" y="35449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135240" y="35640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13524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135240" y="36180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135240" y="3656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135240" y="36734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135240" y="3710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135240" y="3728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35240" y="3765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35240" y="37846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135240" y="3821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135240" y="38401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35240" y="3876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135240" y="38941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135240" y="3930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1543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1910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2097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24648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2655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301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3195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355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3750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4113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304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46716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4862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5226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5402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578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59568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63204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11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878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069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74328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6092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798720" y="393048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163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527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8718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0852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276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639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160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9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70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734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924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2920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1482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184640" y="39304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184640" y="38941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84640" y="3876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184640" y="38401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184640" y="3821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184640" y="37846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84640" y="3765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84640" y="3728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184640" y="3710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184640" y="367344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84640" y="365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84640" y="361800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184640" y="36003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184640" y="35640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184640" y="3544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184640" y="35082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184640" y="348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184640" y="3452760"/>
                <a:ext cx="93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184640" y="3435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184640" y="33973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84640" y="3379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184640" y="33433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84640" y="3324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84640" y="3287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1702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1338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148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07844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0608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0244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00536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686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495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132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89412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85776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84012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0196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846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479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7288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25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734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63708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61944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8128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40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272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082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4718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4527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1640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39876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36060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34332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3066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2878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2511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2320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1957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7664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13992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"/>
            <p:cNvSpPr/>
            <p:nvPr/>
          </p:nvSpPr>
          <p:spPr>
            <a:xfrm>
              <a:off x="2671920" y="3314880"/>
              <a:ext cx="334800" cy="29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76320" y="3351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3825720" y="2000160"/>
              <a:ext cx="2198880" cy="96840"/>
              <a:chOff x="3825720" y="2000160"/>
              <a:chExt cx="2198880" cy="96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3825720" y="2046240"/>
                <a:ext cx="2198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927760" y="20001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 flipH="1">
              <a:off x="2432160" y="2041560"/>
              <a:ext cx="1039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509920" y="2017800"/>
              <a:ext cx="6516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3554280" y="3440160"/>
              <a:ext cx="239760" cy="270000"/>
              <a:chOff x="3554280" y="3440160"/>
              <a:chExt cx="239760" cy="270000"/>
            </a:xfrm>
          </p:grpSpPr>
          <p:sp>
            <p:nvSpPr>
              <p:cNvPr id="2003" name=""/>
              <p:cNvSpPr/>
              <p:nvPr/>
            </p:nvSpPr>
            <p:spPr>
              <a:xfrm>
                <a:off x="3559320" y="3443400"/>
                <a:ext cx="230040" cy="2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554280" y="34434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554280" y="34624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554280" y="34815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554280" y="34988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554280" y="3517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554280" y="35352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554280" y="355428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554280" y="35733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554280" y="35910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554280" y="36100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554280" y="36273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554280" y="36464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54280" y="36640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554280" y="36831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554280" y="37018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57336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5910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61008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6273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64644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66552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68316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0188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1952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386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5768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49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84680" y="3692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84680" y="3673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84680" y="3656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84680" y="3637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84680" y="3618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4680" y="36003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4680" y="358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3564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3544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4680" y="3527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4680" y="35082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4680" y="34894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4680" y="3471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4680" y="3452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8000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609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4328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2420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0692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68784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668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65112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63204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614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9568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7840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593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8" name=""/>
            <p:cNvSpPr/>
            <p:nvPr/>
          </p:nvSpPr>
          <p:spPr>
            <a:xfrm>
              <a:off x="3615120" y="347184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682440" y="3544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360600" y="383544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3774960" y="3677760"/>
              <a:ext cx="69840" cy="87480"/>
              <a:chOff x="3774960" y="3677760"/>
              <a:chExt cx="69840" cy="87480"/>
            </a:xfrm>
          </p:grpSpPr>
          <p:sp>
            <p:nvSpPr>
              <p:cNvPr id="2062" name=""/>
              <p:cNvSpPr/>
              <p:nvPr/>
            </p:nvSpPr>
            <p:spPr>
              <a:xfrm>
                <a:off x="3774960" y="3724200"/>
                <a:ext cx="69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7000" y="3677760"/>
                <a:ext cx="468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 flipV="1">
              <a:off x="354492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381168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3668760" y="31687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844800" y="3591000"/>
              <a:ext cx="1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55920" y="3591000"/>
              <a:ext cx="1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3544920" y="3696840"/>
              <a:ext cx="1440" cy="8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668760" y="3324240"/>
              <a:ext cx="3366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3347640" y="3333600"/>
              <a:ext cx="3128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265560" y="357336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68640" y="3564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54600" y="422604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14880" y="422604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01960" y="4010040"/>
              <a:ext cx="20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343320" y="4010040"/>
              <a:ext cx="20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86280" y="4022640"/>
              <a:ext cx="46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343320" y="402264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0" name=""/>
            <p:cNvGrpSpPr/>
            <p:nvPr/>
          </p:nvGrpSpPr>
          <p:grpSpPr>
            <a:xfrm>
              <a:off x="3471840" y="4206960"/>
              <a:ext cx="419040" cy="96840"/>
              <a:chOff x="3471840" y="4206960"/>
              <a:chExt cx="419040" cy="96840"/>
            </a:xfrm>
          </p:grpSpPr>
          <p:sp>
            <p:nvSpPr>
              <p:cNvPr id="2081" name=""/>
              <p:cNvSpPr/>
              <p:nvPr/>
            </p:nvSpPr>
            <p:spPr>
              <a:xfrm>
                <a:off x="3471840" y="4253040"/>
                <a:ext cx="419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794040" y="42069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3343320" y="4281480"/>
              <a:ext cx="144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86280" y="4286160"/>
              <a:ext cx="468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3973680" y="4483080"/>
              <a:ext cx="136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65720" y="4640400"/>
              <a:ext cx="155520" cy="40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38800" y="4478400"/>
              <a:ext cx="144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338800" y="5040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472000" y="4722840"/>
              <a:ext cx="33660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544720" y="47592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665320" y="4851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65720" y="3889440"/>
              <a:ext cx="15552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338800" y="2041560"/>
              <a:ext cx="1440" cy="18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38800" y="429408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472000" y="3976560"/>
              <a:ext cx="336600" cy="295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544720" y="4014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5320" y="410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307120" y="5545080"/>
              <a:ext cx="586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307120" y="2017800"/>
              <a:ext cx="586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14880" y="4410000"/>
              <a:ext cx="648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07120" y="4456080"/>
              <a:ext cx="5868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031840" y="5573880"/>
              <a:ext cx="473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3" name=""/>
            <p:cNvGrpSpPr/>
            <p:nvPr/>
          </p:nvGrpSpPr>
          <p:grpSpPr>
            <a:xfrm>
              <a:off x="4272120" y="4611600"/>
              <a:ext cx="96840" cy="676440"/>
              <a:chOff x="4272120" y="4611600"/>
              <a:chExt cx="96840" cy="676440"/>
            </a:xfrm>
          </p:grpSpPr>
          <p:sp>
            <p:nvSpPr>
              <p:cNvPr id="2104" name=""/>
              <p:cNvSpPr/>
              <p:nvPr/>
            </p:nvSpPr>
            <p:spPr>
              <a:xfrm>
                <a:off x="4317840" y="4611600"/>
                <a:ext cx="504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27212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"/>
            <p:cNvGrpSpPr/>
            <p:nvPr/>
          </p:nvGrpSpPr>
          <p:grpSpPr>
            <a:xfrm>
              <a:off x="2809800" y="4611600"/>
              <a:ext cx="96840" cy="676440"/>
              <a:chOff x="2809800" y="4611600"/>
              <a:chExt cx="96840" cy="676440"/>
            </a:xfrm>
          </p:grpSpPr>
          <p:sp>
            <p:nvSpPr>
              <p:cNvPr id="2107" name=""/>
              <p:cNvSpPr/>
              <p:nvPr/>
            </p:nvSpPr>
            <p:spPr>
              <a:xfrm>
                <a:off x="2855880" y="4611600"/>
                <a:ext cx="180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80980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6037200" y="2050920"/>
              <a:ext cx="731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2031840" y="2004840"/>
              <a:ext cx="390600" cy="96840"/>
              <a:chOff x="2031840" y="2004840"/>
              <a:chExt cx="390600" cy="96840"/>
            </a:xfrm>
          </p:grpSpPr>
          <p:sp>
            <p:nvSpPr>
              <p:cNvPr id="2111" name=""/>
              <p:cNvSpPr/>
              <p:nvPr/>
            </p:nvSpPr>
            <p:spPr>
              <a:xfrm>
                <a:off x="2031840" y="2050920"/>
                <a:ext cx="390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327400" y="200484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61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990800" y="2196720"/>
              <a:ext cx="96840" cy="3233880"/>
              <a:chOff x="1990800" y="2196720"/>
              <a:chExt cx="96840" cy="3233880"/>
            </a:xfrm>
          </p:grpSpPr>
          <p:sp>
            <p:nvSpPr>
              <p:cNvPr id="2114" name=""/>
              <p:cNvSpPr/>
              <p:nvPr/>
            </p:nvSpPr>
            <p:spPr>
              <a:xfrm flipV="1">
                <a:off x="2031840" y="2196720"/>
                <a:ext cx="5040" cy="323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990800" y="21970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6705720" y="2184480"/>
              <a:ext cx="95040" cy="3232080"/>
              <a:chOff x="6705720" y="2184480"/>
              <a:chExt cx="95040" cy="3232080"/>
            </a:xfrm>
          </p:grpSpPr>
          <p:sp>
            <p:nvSpPr>
              <p:cNvPr id="2117" name=""/>
              <p:cNvSpPr/>
              <p:nvPr/>
            </p:nvSpPr>
            <p:spPr>
              <a:xfrm flipV="1">
                <a:off x="6746760" y="2184480"/>
                <a:ext cx="3240" cy="32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05720" y="218448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60" y="61"/>
                    </a:moveTo>
                    <a:lnTo>
                      <a:pt x="28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1986120" y="5545080"/>
              <a:ext cx="6012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986120" y="2017800"/>
              <a:ext cx="6012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727680" y="2022480"/>
              <a:ext cx="651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727680" y="5545080"/>
              <a:ext cx="6516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3494160" y="1646280"/>
              <a:ext cx="326880" cy="312840"/>
              <a:chOff x="3494160" y="1646280"/>
              <a:chExt cx="326880" cy="312840"/>
            </a:xfrm>
          </p:grpSpPr>
          <p:sp>
            <p:nvSpPr>
              <p:cNvPr id="2124" name=""/>
              <p:cNvSpPr/>
              <p:nvPr/>
            </p:nvSpPr>
            <p:spPr>
              <a:xfrm>
                <a:off x="3498840" y="1650960"/>
                <a:ext cx="317520" cy="30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94160" y="16509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94160" y="16876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494160" y="17049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494160" y="1743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494160" y="176040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494160" y="17971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494160" y="18162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94160" y="18525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494160" y="18716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494160" y="1908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494160" y="19256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50820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52728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56400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581280" y="1949400"/>
                <a:ext cx="288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619440" y="1949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637080" y="1949400"/>
                <a:ext cx="2844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344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9252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72888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74796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8468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01960" y="1940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0" y="12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9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9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11680" y="1922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11680" y="18842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11680" y="1866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11680" y="18302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11680" y="18111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11680" y="17748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11680" y="1755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11680" y="17193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11680" y="17017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11680" y="16635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11680" y="16462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77496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757680" y="164628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71952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70188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66552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64644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100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91000" y="16462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542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53520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49884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3609720" y="1682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99440" y="1324080"/>
              <a:ext cx="154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element regulacyjn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3241800" y="4827600"/>
              <a:ext cx="215640" cy="128520"/>
              <a:chOff x="3241800" y="4827600"/>
              <a:chExt cx="215640" cy="128520"/>
            </a:xfrm>
          </p:grpSpPr>
          <p:grpSp>
            <p:nvGrpSpPr>
              <p:cNvPr id="2173" name=""/>
              <p:cNvGrpSpPr/>
              <p:nvPr/>
            </p:nvGrpSpPr>
            <p:grpSpPr>
              <a:xfrm>
                <a:off x="3241800" y="4827600"/>
                <a:ext cx="215640" cy="128520"/>
                <a:chOff x="3241800" y="4827600"/>
                <a:chExt cx="215640" cy="12852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3241800" y="4943520"/>
                  <a:ext cx="1886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3255840" y="4842000"/>
                  <a:ext cx="874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3343320" y="4842000"/>
                  <a:ext cx="11412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3255840" y="4827600"/>
                  <a:ext cx="1890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8" name=""/>
              <p:cNvSpPr/>
              <p:nvPr/>
            </p:nvSpPr>
            <p:spPr>
              <a:xfrm>
                <a:off x="3444840" y="486900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430440" y="4827600"/>
                <a:ext cx="180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"/>
            <p:cNvSpPr/>
            <p:nvPr/>
          </p:nvSpPr>
          <p:spPr>
            <a:xfrm>
              <a:off x="3343320" y="4943520"/>
              <a:ext cx="144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06600" y="5545080"/>
              <a:ext cx="6372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7320" y="5877000"/>
              <a:ext cx="23036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169800" y="5908680"/>
              <a:ext cx="21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Źródło napięcia odniesien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176640" y="6107040"/>
              <a:ext cx="2189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3039840" y="5030640"/>
              <a:ext cx="228600" cy="10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040200" y="6093000"/>
              <a:ext cx="1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71840" y="4740120"/>
              <a:ext cx="3351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3240" y="4773600"/>
              <a:ext cx="24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235240" y="1663560"/>
              <a:ext cx="2667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02920" y="16970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68080" y="1789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72320" y="1697040"/>
              <a:ext cx="261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936760" y="17287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00120" y="1820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733400" y="3651120"/>
              <a:ext cx="3495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770120" y="3683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907640" y="377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34240" y="3664080"/>
              <a:ext cx="450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926400" y="369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062120" y="378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544920" y="4322880"/>
              <a:ext cx="33660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00360" y="43545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38240" y="44467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509920" y="4781520"/>
              <a:ext cx="304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52760" y="4815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88840" y="49068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78320" y="4754520"/>
              <a:ext cx="3762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96680" y="4776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511520" y="483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9040" y="492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660840" y="2754000"/>
              <a:ext cx="1440" cy="414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933640" y="2014560"/>
              <a:ext cx="892080" cy="753840"/>
              <a:chOff x="2933640" y="2014560"/>
              <a:chExt cx="892080" cy="753840"/>
            </a:xfrm>
          </p:grpSpPr>
          <p:grpSp>
            <p:nvGrpSpPr>
              <p:cNvPr id="2213" name=""/>
              <p:cNvGrpSpPr/>
              <p:nvPr/>
            </p:nvGrpSpPr>
            <p:grpSpPr>
              <a:xfrm>
                <a:off x="3481200" y="2045880"/>
                <a:ext cx="344520" cy="386280"/>
                <a:chOff x="3481200" y="2045880"/>
                <a:chExt cx="344520" cy="38628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3522600" y="2289240"/>
                  <a:ext cx="2620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 flipV="1">
                  <a:off x="3481200" y="2046240"/>
                  <a:ext cx="99720" cy="230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6" name=""/>
                <p:cNvGrpSpPr/>
                <p:nvPr/>
              </p:nvGrpSpPr>
              <p:grpSpPr>
                <a:xfrm>
                  <a:off x="3701880" y="2128320"/>
                  <a:ext cx="87480" cy="147960"/>
                  <a:chOff x="3701880" y="2128320"/>
                  <a:chExt cx="87480" cy="14796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 flipV="1">
                    <a:off x="3711600" y="2128320"/>
                    <a:ext cx="73080" cy="1479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701880" y="212868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9">
                        <a:moveTo>
                          <a:pt x="55" y="69"/>
                        </a:moveTo>
                        <a:lnTo>
                          <a:pt x="52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9" name=""/>
                <p:cNvSpPr/>
                <p:nvPr/>
              </p:nvSpPr>
              <p:spPr>
                <a:xfrm flipV="1">
                  <a:off x="3784680" y="2045880"/>
                  <a:ext cx="41040" cy="87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3660840" y="2289240"/>
                  <a:ext cx="1440" cy="142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1" name=""/>
              <p:cNvSpPr/>
              <p:nvPr/>
            </p:nvSpPr>
            <p:spPr>
              <a:xfrm>
                <a:off x="3186000" y="2635200"/>
                <a:ext cx="2764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2" name=""/>
              <p:cNvGrpSpPr/>
              <p:nvPr/>
            </p:nvGrpSpPr>
            <p:grpSpPr>
              <a:xfrm>
                <a:off x="3164040" y="2455920"/>
                <a:ext cx="137880" cy="174600"/>
                <a:chOff x="3164040" y="2455920"/>
                <a:chExt cx="137880" cy="17460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3164040" y="2455920"/>
                  <a:ext cx="137880" cy="174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3168720" y="2487600"/>
                  <a:ext cx="133200" cy="142920"/>
                </a:xfrm>
                <a:custGeom>
                  <a:avLst/>
                  <a:gdLst/>
                  <a:ahLst/>
                  <a:rect l="l" t="t" r="r" b="b"/>
                  <a:pathLst>
                    <a:path w="84" h="90">
                      <a:moveTo>
                        <a:pt x="0" y="38"/>
                      </a:moveTo>
                      <a:lnTo>
                        <a:pt x="84" y="9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5" name=""/>
              <p:cNvSpPr/>
              <p:nvPr/>
            </p:nvSpPr>
            <p:spPr>
              <a:xfrm flipV="1">
                <a:off x="3301920" y="2414520"/>
                <a:ext cx="150840" cy="216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452760" y="2414520"/>
                <a:ext cx="1936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960640" y="2436840"/>
                <a:ext cx="1983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2960640" y="2036880"/>
                <a:ext cx="1800" cy="39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3278160" y="2754360"/>
                <a:ext cx="3729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3268800" y="2634840"/>
                <a:ext cx="1440" cy="133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2014560"/>
                <a:ext cx="651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535120" y="2058840"/>
              <a:ext cx="824040" cy="2368800"/>
            </a:xfrm>
            <a:custGeom>
              <a:avLst/>
              <a:gdLst/>
              <a:ahLst/>
              <a:rect l="l" t="t" r="r" b="b"/>
              <a:pathLst>
                <a:path w="519" h="1492">
                  <a:moveTo>
                    <a:pt x="0" y="0"/>
                  </a:moveTo>
                  <a:lnTo>
                    <a:pt x="0" y="1492"/>
                  </a:lnTo>
                  <a:lnTo>
                    <a:pt x="519" y="14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460600" y="3227400"/>
              <a:ext cx="16020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943520" y="3565440"/>
              <a:ext cx="914400" cy="178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5" name=""/>
                <p:cNvSpPr txBox="1"/>
                <p:nvPr/>
              </p:nvSpPr>
              <p:spPr>
                <a:xfrm>
                  <a:off x="6873840" y="4815000"/>
                  <a:ext cx="14954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9320" y="446724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74920" y="1198440"/>
            <a:ext cx="2886120" cy="2870640"/>
            <a:chOff x="3274920" y="1198440"/>
            <a:chExt cx="2886120" cy="2870640"/>
          </a:xfrm>
        </p:grpSpPr>
        <p:sp>
          <p:nvSpPr>
            <p:cNvPr id="45" name=""/>
            <p:cNvSpPr/>
            <p:nvPr/>
          </p:nvSpPr>
          <p:spPr>
            <a:xfrm>
              <a:off x="3348000" y="20635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2104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95240" y="2205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3560" y="253188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76920" y="239544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76920" y="2928960"/>
              <a:ext cx="18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83480" y="2536560"/>
              <a:ext cx="277560" cy="35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9120" y="2612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39720" y="268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81360" y="2239920"/>
              <a:ext cx="146376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1880" y="257148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328920" y="2351160"/>
              <a:ext cx="200160" cy="104760"/>
              <a:chOff x="3328920" y="2351160"/>
              <a:chExt cx="200160" cy="104760"/>
            </a:xfrm>
          </p:grpSpPr>
          <p:sp>
            <p:nvSpPr>
              <p:cNvPr id="57" name=""/>
              <p:cNvSpPr/>
              <p:nvPr/>
            </p:nvSpPr>
            <p:spPr>
              <a:xfrm>
                <a:off x="3328920" y="2395440"/>
                <a:ext cx="2001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30800" y="235116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5006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149800" y="2351160"/>
              <a:ext cx="193680" cy="104760"/>
              <a:chOff x="5149800" y="2351160"/>
              <a:chExt cx="193680" cy="104760"/>
            </a:xfrm>
          </p:grpSpPr>
          <p:sp>
            <p:nvSpPr>
              <p:cNvPr id="61" name=""/>
              <p:cNvSpPr/>
              <p:nvPr/>
            </p:nvSpPr>
            <p:spPr>
              <a:xfrm>
                <a:off x="5149800" y="240192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46640" y="235116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343480" y="2395440"/>
              <a:ext cx="198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9800" y="3100320"/>
              <a:ext cx="392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496120" y="2466360"/>
              <a:ext cx="96840" cy="567000"/>
              <a:chOff x="5496120" y="2466360"/>
              <a:chExt cx="96840" cy="56700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5542200" y="2466360"/>
                <a:ext cx="144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961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338640" y="310032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274920" y="2466360"/>
              <a:ext cx="96840" cy="567000"/>
              <a:chOff x="3274920" y="2466360"/>
              <a:chExt cx="96840" cy="5670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3316320" y="2466360"/>
                <a:ext cx="468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749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3283200" y="3070080"/>
              <a:ext cx="6012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832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3240" y="3100320"/>
              <a:ext cx="19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6800" y="204948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9240" y="20844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24040" y="21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8000" y="2617560"/>
              <a:ext cx="300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88320" y="2687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8720" y="276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00560" y="26017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45920" y="2636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4520" y="2738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3400" y="3070080"/>
              <a:ext cx="6048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13400" y="2365200"/>
              <a:ext cx="604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83200" y="2365200"/>
              <a:ext cx="601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29240" y="2043000"/>
              <a:ext cx="13935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93840" y="1469880"/>
              <a:ext cx="89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9960" y="3558960"/>
              <a:ext cx="179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str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=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94600" y="11984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cc0000"/>
                  </a:solidFill>
                  <a:latin typeface="Times New Roman"/>
                </a:rPr>
                <a:t>Dropou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834160" y="3867120"/>
            <a:ext cx="48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616720" y="3873240"/>
            <a:ext cx="3110400" cy="2396520"/>
            <a:chOff x="5616720" y="3873240"/>
            <a:chExt cx="3110400" cy="2396520"/>
          </a:xfrm>
        </p:grpSpPr>
        <p:sp>
          <p:nvSpPr>
            <p:cNvPr id="93" name=""/>
            <p:cNvSpPr/>
            <p:nvPr/>
          </p:nvSpPr>
          <p:spPr>
            <a:xfrm flipV="1">
              <a:off x="5616720" y="3873240"/>
              <a:ext cx="0" cy="180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6720" y="5691600"/>
              <a:ext cx="30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6720" y="44420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7760" y="4454640"/>
              <a:ext cx="14716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43280" y="514224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9920" y="579924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5160" y="4454640"/>
              <a:ext cx="0" cy="1249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1320" y="5759640"/>
              <a:ext cx="78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6680" y="4924440"/>
            <a:ext cx="890640" cy="173160"/>
          </a:xfrm>
          <a:prstGeom prst="rightArrow">
            <a:avLst>
              <a:gd name="adj1" fmla="val 50000"/>
              <a:gd name="adj2" fmla="val 1285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1441440" y="1357200"/>
                <a:ext cx="3921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8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1405080" y="3132000"/>
                <a:ext cx="59007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0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1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326200" y="35481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05400" y="33847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05400" y="39546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540400" y="36370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616720" y="3675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736600" y="3768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875040" y="31561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192560" y="32590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3944880" y="32130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4033440" y="3422520"/>
            <a:ext cx="149400" cy="98640"/>
            <a:chOff x="4033440" y="3422520"/>
            <a:chExt cx="149400" cy="98640"/>
          </a:xfrm>
        </p:grpSpPr>
        <p:sp>
          <p:nvSpPr>
            <p:cNvPr id="2256" name=""/>
            <p:cNvSpPr/>
            <p:nvPr/>
          </p:nvSpPr>
          <p:spPr>
            <a:xfrm flipH="1">
              <a:off x="4033440" y="34466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033800" y="34225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8" name=""/>
          <p:cNvSpPr/>
          <p:nvPr/>
        </p:nvSpPr>
        <p:spPr>
          <a:xfrm flipH="1">
            <a:off x="3944520" y="35211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192560" y="33940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944880" y="35622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3935520" y="30160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 flipV="1">
            <a:off x="4336920" y="33937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326200" y="28018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405400" y="15969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405400" y="32130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540400" y="28908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616720" y="2927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736600" y="3021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052800" y="17654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132000" y="16066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32000" y="21765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62320" y="18543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27480" y="1895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449160" y="1989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941480" y="44546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711600" y="15224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3812760" y="18446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4019400" y="15969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 flipV="1">
            <a:off x="3771720" y="15969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40200" y="1844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1931760" y="15969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4130640" y="15919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3940200" y="19890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27320" y="23670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916440" y="4425840"/>
            <a:ext cx="6516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78400" y="4435560"/>
            <a:ext cx="604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78400" y="33750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369040" y="15638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094200" y="15638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829560" y="15685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911760" y="23400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895400" y="44258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895400" y="15638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5410080" y="3394080"/>
            <a:ext cx="793800" cy="9360"/>
            <a:chOff x="5410080" y="3394080"/>
            <a:chExt cx="793800" cy="9360"/>
          </a:xfrm>
        </p:grpSpPr>
        <p:sp>
          <p:nvSpPr>
            <p:cNvPr id="2295" name=""/>
            <p:cNvSpPr/>
            <p:nvPr/>
          </p:nvSpPr>
          <p:spPr>
            <a:xfrm>
              <a:off x="54100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4291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4482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4658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4849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5040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522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540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559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5785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976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61672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6340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3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72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691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708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7276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7466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765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783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802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21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8402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857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770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896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15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34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51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706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896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00876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260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0451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064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08328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100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1196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387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578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754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945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6829560" y="44258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"/>
          <p:cNvGrpSpPr/>
          <p:nvPr/>
        </p:nvGrpSpPr>
        <p:grpSpPr>
          <a:xfrm>
            <a:off x="6013440" y="3506760"/>
            <a:ext cx="96840" cy="844560"/>
            <a:chOff x="6013440" y="3506760"/>
            <a:chExt cx="96840" cy="844560"/>
          </a:xfrm>
        </p:grpSpPr>
        <p:sp>
          <p:nvSpPr>
            <p:cNvPr id="2340" name=""/>
            <p:cNvSpPr/>
            <p:nvPr/>
          </p:nvSpPr>
          <p:spPr>
            <a:xfrm>
              <a:off x="6059520" y="3506760"/>
              <a:ext cx="468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013440" y="35067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6802560" y="1755720"/>
            <a:ext cx="96840" cy="2511360"/>
            <a:chOff x="6802560" y="1755720"/>
            <a:chExt cx="96840" cy="2511360"/>
          </a:xfrm>
        </p:grpSpPr>
        <p:sp>
          <p:nvSpPr>
            <p:cNvPr id="2343" name=""/>
            <p:cNvSpPr/>
            <p:nvPr/>
          </p:nvSpPr>
          <p:spPr>
            <a:xfrm>
              <a:off x="684864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802560" y="17557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1886040" y="1755720"/>
            <a:ext cx="98280" cy="2511360"/>
            <a:chOff x="1886040" y="1755720"/>
            <a:chExt cx="98280" cy="2511360"/>
          </a:xfrm>
        </p:grpSpPr>
        <p:sp>
          <p:nvSpPr>
            <p:cNvPr id="2346" name=""/>
            <p:cNvSpPr/>
            <p:nvPr/>
          </p:nvSpPr>
          <p:spPr>
            <a:xfrm>
              <a:off x="193212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886040" y="17557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841920" y="42210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3860640" y="41176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860640" y="41036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046400" y="41464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046400" y="41083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406680" y="40021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449160" y="40338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119640" y="37260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139440" y="37497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254280" y="3805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395400" y="38988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944880" y="4221000"/>
            <a:ext cx="468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940200" y="3894120"/>
            <a:ext cx="644400" cy="14400"/>
            <a:chOff x="3940200" y="3894120"/>
            <a:chExt cx="644400" cy="14400"/>
          </a:xfrm>
        </p:grpSpPr>
        <p:sp>
          <p:nvSpPr>
            <p:cNvPr id="2361" name=""/>
            <p:cNvSpPr/>
            <p:nvPr/>
          </p:nvSpPr>
          <p:spPr>
            <a:xfrm>
              <a:off x="3940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95928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976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9956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1472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3380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0514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0705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892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0832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2596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1450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1641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183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048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19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386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577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75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940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3131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33224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5132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3689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3876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067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2584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4434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4625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4816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50072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518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5370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5561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752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4187880" y="1765440"/>
            <a:ext cx="171360" cy="303120"/>
            <a:chOff x="4187880" y="1765440"/>
            <a:chExt cx="171360" cy="303120"/>
          </a:xfrm>
        </p:grpSpPr>
        <p:sp>
          <p:nvSpPr>
            <p:cNvPr id="2397" name=""/>
            <p:cNvSpPr/>
            <p:nvPr/>
          </p:nvSpPr>
          <p:spPr>
            <a:xfrm flipV="1">
              <a:off x="4187880" y="17654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187880" y="19558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4452840" y="4014720"/>
            <a:ext cx="98640" cy="355680"/>
            <a:chOff x="4452840" y="4014720"/>
            <a:chExt cx="98640" cy="355680"/>
          </a:xfrm>
        </p:grpSpPr>
        <p:sp>
          <p:nvSpPr>
            <p:cNvPr id="2400" name=""/>
            <p:cNvSpPr/>
            <p:nvPr/>
          </p:nvSpPr>
          <p:spPr>
            <a:xfrm>
              <a:off x="4500720" y="4014720"/>
              <a:ext cx="144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452840" y="40147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30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554120" y="29368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604520" y="2970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745640" y="306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383000" y="18637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411440" y="1895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550760" y="19890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589640" y="40482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644720" y="4081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84400" y="4173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923160" y="29224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987960" y="2955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127280" y="3049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772080" y="12002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50920" y="123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58560" y="1325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478320" y="32878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562200" y="3319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668040" y="3413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 flipV="1">
            <a:off x="3954240" y="41176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995640" y="1676160"/>
            <a:ext cx="98640" cy="144360"/>
            <a:chOff x="3995640" y="1676160"/>
            <a:chExt cx="98640" cy="144360"/>
          </a:xfrm>
        </p:grpSpPr>
        <p:sp>
          <p:nvSpPr>
            <p:cNvPr id="2422" name=""/>
            <p:cNvSpPr/>
            <p:nvPr/>
          </p:nvSpPr>
          <p:spPr>
            <a:xfrm flipV="1">
              <a:off x="4019400" y="16761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995640" y="16765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282600" y="4600440"/>
                <a:ext cx="4280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563400" y="5870520"/>
                <a:ext cx="3057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26" name=""/>
          <p:cNvGrpSpPr/>
          <p:nvPr/>
        </p:nvGrpSpPr>
        <p:grpSpPr>
          <a:xfrm>
            <a:off x="4440240" y="2687760"/>
            <a:ext cx="76320" cy="304560"/>
            <a:chOff x="4440240" y="2687760"/>
            <a:chExt cx="76320" cy="304560"/>
          </a:xfrm>
        </p:grpSpPr>
        <p:sp>
          <p:nvSpPr>
            <p:cNvPr id="2427" name=""/>
            <p:cNvSpPr/>
            <p:nvPr/>
          </p:nvSpPr>
          <p:spPr>
            <a:xfrm>
              <a:off x="444024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51656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3933720" y="282240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514760" y="28288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753080" y="281952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914640" y="278136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724280" y="3362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419000" y="2389320"/>
            <a:ext cx="347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083120" y="3451320"/>
            <a:ext cx="43344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431960" y="353052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rot="27600">
            <a:off x="1160640" y="4500360"/>
            <a:ext cx="1974600" cy="9763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4849920" y="4654440"/>
            <a:ext cx="3975120" cy="1334880"/>
            <a:chOff x="4849920" y="4654440"/>
            <a:chExt cx="3975120" cy="1334880"/>
          </a:xfrm>
        </p:grpSpPr>
        <mc:AlternateContent>
          <mc:Choice xmlns:a14="http://schemas.microsoft.com/office/drawing/2010/main" Requires="a14">
            <p:sp>
              <p:nvSpPr>
                <p:cNvPr id="2439" name=""/>
                <p:cNvSpPr txBox="1"/>
                <p:nvPr/>
              </p:nvSpPr>
              <p:spPr>
                <a:xfrm>
                  <a:off x="4989960" y="4778280"/>
                  <a:ext cx="8524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40" name=""/>
            <p:cNvSpPr/>
            <p:nvPr/>
          </p:nvSpPr>
          <p:spPr>
            <a:xfrm>
              <a:off x="5364360" y="4809960"/>
              <a:ext cx="34606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zmocnienie 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ko wzmacniac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ądu stałe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9920" y="4654440"/>
              <a:ext cx="3265560" cy="13348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2" name=""/>
          <p:cNvSpPr/>
          <p:nvPr/>
        </p:nvSpPr>
        <p:spPr>
          <a:xfrm>
            <a:off x="4345200" y="6056280"/>
            <a:ext cx="23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dużego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3935520" y="631044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238480" y="3699000"/>
            <a:ext cx="1844640" cy="792000"/>
          </a:xfrm>
          <a:custGeom>
            <a:avLst/>
            <a:gdLst/>
            <a:ahLst/>
            <a:rect l="l" t="t" r="r" b="b"/>
            <a:pathLst>
              <a:path w="1123" h="398">
                <a:moveTo>
                  <a:pt x="0" y="398"/>
                </a:moveTo>
                <a:cubicBezTo>
                  <a:pt x="156" y="275"/>
                  <a:pt x="312" y="152"/>
                  <a:pt x="499" y="86"/>
                </a:cubicBezTo>
                <a:cubicBezTo>
                  <a:pt x="686" y="20"/>
                  <a:pt x="904" y="10"/>
                  <a:pt x="11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60200" y="4267080"/>
            <a:ext cx="3216240" cy="15354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460520" y="2498760"/>
            <a:ext cx="2374920" cy="1770120"/>
          </a:xfrm>
          <a:custGeom>
            <a:avLst/>
            <a:gdLst/>
            <a:ahLst/>
            <a:rect l="l" t="t" r="r" b="b"/>
            <a:pathLst>
              <a:path w="1496" h="1115">
                <a:moveTo>
                  <a:pt x="0" y="1115"/>
                </a:moveTo>
                <a:cubicBezTo>
                  <a:pt x="125" y="904"/>
                  <a:pt x="251" y="694"/>
                  <a:pt x="366" y="546"/>
                </a:cubicBezTo>
                <a:cubicBezTo>
                  <a:pt x="481" y="398"/>
                  <a:pt x="505" y="317"/>
                  <a:pt x="693" y="226"/>
                </a:cubicBezTo>
                <a:cubicBezTo>
                  <a:pt x="881" y="135"/>
                  <a:pt x="1188" y="67"/>
                  <a:pt x="1496" y="0"/>
                </a:cubicBezTo>
              </a:path>
            </a:pathLst>
          </a:custGeom>
          <a:noFill/>
          <a:ln w="1260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2481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4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2526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8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2529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2532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4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2547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2550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2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541160" y="3592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635600" y="35766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2568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0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986720" y="286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3" name=""/>
              <p:cNvSpPr txBox="1"/>
              <p:nvPr/>
            </p:nvSpPr>
            <p:spPr>
              <a:xfrm>
                <a:off x="2671920" y="5446800"/>
                <a:ext cx="30384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075480" y="45259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954760" y="2990880"/>
                <a:ext cx="241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9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252360" y="1139760"/>
            <a:ext cx="8113680" cy="4532400"/>
            <a:chOff x="252360" y="1139760"/>
            <a:chExt cx="8113680" cy="4532400"/>
          </a:xfrm>
        </p:grpSpPr>
        <p:sp>
          <p:nvSpPr>
            <p:cNvPr id="2614" name=""/>
            <p:cNvSpPr/>
            <p:nvPr/>
          </p:nvSpPr>
          <p:spPr>
            <a:xfrm>
              <a:off x="3016080" y="2714760"/>
              <a:ext cx="1498680" cy="128736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121200" y="1779480"/>
              <a:ext cx="84744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562040" y="1790640"/>
              <a:ext cx="84780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968640" y="19033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903920" y="190332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4514400" y="33847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416320" y="190332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>
              <a:off x="2839680" y="3030480"/>
              <a:ext cx="1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2820960" y="1903320"/>
              <a:ext cx="0" cy="112896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309760" y="4583160"/>
              <a:ext cx="600120" cy="565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2610000" y="4706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>
              <a:off x="2644560" y="3666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627280" y="3666960"/>
              <a:ext cx="0" cy="9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610000" y="51483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503440" y="5483160"/>
              <a:ext cx="28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1287360" y="192096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270080" y="177948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763720" y="18702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869000" y="334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445920" y="3132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048120" y="27576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047400" y="3467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075480" y="452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7" name=""/>
                <p:cNvSpPr txBox="1"/>
                <p:nvPr/>
              </p:nvSpPr>
              <p:spPr>
                <a:xfrm>
                  <a:off x="5954760" y="2990880"/>
                  <a:ext cx="24112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8" name=""/>
            <p:cNvSpPr/>
            <p:nvPr/>
          </p:nvSpPr>
          <p:spPr>
            <a:xfrm>
              <a:off x="1484640" y="1139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329280" y="1204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0" name="" descr=""/>
            <p:cNvPicPr/>
            <p:nvPr/>
          </p:nvPicPr>
          <p:blipFill>
            <a:blip r:embed="rId1"/>
            <a:stretch/>
          </p:blipFill>
          <p:spPr>
            <a:xfrm>
              <a:off x="252360" y="3193920"/>
              <a:ext cx="190044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1" name=""/>
            <p:cNvSpPr/>
            <p:nvPr/>
          </p:nvSpPr>
          <p:spPr>
            <a:xfrm>
              <a:off x="1429560" y="2654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368360" y="2085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2475000" y="1979280"/>
              <a:ext cx="22212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387520" y="2970360"/>
              <a:ext cx="37152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709720" y="2017800"/>
              <a:ext cx="2210040" cy="1282680"/>
            </a:xfrm>
            <a:custGeom>
              <a:avLst/>
              <a:gdLst/>
              <a:ahLst/>
              <a:rect l="l" t="t" r="r" b="b"/>
              <a:pathLst>
                <a:path w="1392" h="808">
                  <a:moveTo>
                    <a:pt x="85" y="747"/>
                  </a:moveTo>
                  <a:cubicBezTo>
                    <a:pt x="318" y="777"/>
                    <a:pt x="552" y="808"/>
                    <a:pt x="755" y="786"/>
                  </a:cubicBezTo>
                  <a:cubicBezTo>
                    <a:pt x="958" y="764"/>
                    <a:pt x="1210" y="717"/>
                    <a:pt x="1301" y="615"/>
                  </a:cubicBezTo>
                  <a:cubicBezTo>
                    <a:pt x="1392" y="513"/>
                    <a:pt x="1365" y="270"/>
                    <a:pt x="1301" y="171"/>
                  </a:cubicBezTo>
                  <a:cubicBezTo>
                    <a:pt x="1237" y="72"/>
                    <a:pt x="1086" y="46"/>
                    <a:pt x="919" y="23"/>
                  </a:cubicBezTo>
                  <a:cubicBezTo>
                    <a:pt x="752" y="0"/>
                    <a:pt x="449" y="23"/>
                    <a:pt x="296" y="30"/>
                  </a:cubicBezTo>
                  <a:cubicBezTo>
                    <a:pt x="143" y="37"/>
                    <a:pt x="49" y="55"/>
                    <a:pt x="0" y="6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662200" y="2251080"/>
              <a:ext cx="297000" cy="235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2671920" y="2249640"/>
              <a:ext cx="234720" cy="296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8" name="" descr=""/>
          <p:cNvPicPr/>
          <p:nvPr/>
        </p:nvPicPr>
        <p:blipFill>
          <a:blip r:embed="rId1"/>
          <a:srcRect l="18652" t="24828" r="0" b="14416"/>
          <a:stretch/>
        </p:blipFill>
        <p:spPr>
          <a:xfrm>
            <a:off x="4284720" y="1533600"/>
            <a:ext cx="4292640" cy="3247920"/>
          </a:xfrm>
          <a:prstGeom prst="rect">
            <a:avLst/>
          </a:prstGeom>
          <a:ln w="0">
            <a:noFill/>
          </a:ln>
        </p:spPr>
      </p:pic>
      <p:pic>
        <p:nvPicPr>
          <p:cNvPr id="2649" name="" descr=""/>
          <p:cNvPicPr/>
          <p:nvPr/>
        </p:nvPicPr>
        <p:blipFill>
          <a:blip r:embed="rId2"/>
          <a:stretch/>
        </p:blipFill>
        <p:spPr>
          <a:xfrm>
            <a:off x="766800" y="1467000"/>
            <a:ext cx="2512800" cy="3303360"/>
          </a:xfrm>
          <a:prstGeom prst="rect">
            <a:avLst/>
          </a:prstGeom>
          <a:ln w="0">
            <a:noFill/>
          </a:ln>
        </p:spPr>
      </p:pic>
      <p:sp>
        <p:nvSpPr>
          <p:cNvPr id="2650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2694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6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2731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2776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2779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2792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2828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45640" y="2833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317480" y="434808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127280" y="2820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2849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2260440" y="5656320"/>
                <a:ext cx="4556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3121200" y="5472000"/>
                <a:ext cx="26002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6" name=""/>
          <p:cNvGrpSpPr/>
          <p:nvPr/>
        </p:nvGrpSpPr>
        <p:grpSpPr>
          <a:xfrm>
            <a:off x="567360" y="1180800"/>
            <a:ext cx="6966000" cy="4264200"/>
            <a:chOff x="567360" y="1180800"/>
            <a:chExt cx="6966000" cy="4264200"/>
          </a:xfrm>
        </p:grpSpPr>
        <p:sp>
          <p:nvSpPr>
            <p:cNvPr id="2867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2869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3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2874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8" name=""/>
            <p:cNvSpPr/>
            <p:nvPr/>
          </p:nvSpPr>
          <p:spPr>
            <a:xfrm>
              <a:off x="6284160" y="215748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5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2886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4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2895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7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093800" y="3041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2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2913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2916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160" y="749160"/>
            <a:ext cx="8696160" cy="3004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od części wolta (tzw. LDO regulators) do kilku wol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ł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ranzystorach mo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prąd elektrody masowej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ground pin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6000" y="3417840"/>
            <a:ext cx="1173960" cy="765720"/>
            <a:chOff x="396000" y="3417840"/>
            <a:chExt cx="1173960" cy="765720"/>
          </a:xfrm>
        </p:grpSpPr>
        <p:sp>
          <p:nvSpPr>
            <p:cNvPr id="105" name=""/>
            <p:cNvSpPr/>
            <p:nvPr/>
          </p:nvSpPr>
          <p:spPr>
            <a:xfrm>
              <a:off x="984240" y="3795840"/>
              <a:ext cx="585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2760" y="400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71320" y="36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3080" y="379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65760" y="38336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7840" y="3448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00" y="3624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5640" y="3803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06280" y="34178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360" y="35942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3400" y="3632040"/>
            <a:ext cx="397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stabilizacji napięci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4200480"/>
            <a:ext cx="1314000" cy="765360"/>
            <a:chOff x="395280" y="4200480"/>
            <a:chExt cx="1314000" cy="765360"/>
          </a:xfrm>
        </p:grpSpPr>
        <p:sp>
          <p:nvSpPr>
            <p:cNvPr id="117" name=""/>
            <p:cNvSpPr/>
            <p:nvPr/>
          </p:nvSpPr>
          <p:spPr>
            <a:xfrm>
              <a:off x="958680" y="4578480"/>
              <a:ext cx="743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0600" y="4616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26000" y="4616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10040" y="42307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4406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092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4960" y="43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760" y="457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14080" y="458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0280" y="4200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5160" y="4376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62200" y="4403880"/>
            <a:ext cx="3470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temperaturowy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2840" y="5027760"/>
            <a:ext cx="2327760" cy="765360"/>
            <a:chOff x="402840" y="5027760"/>
            <a:chExt cx="2327760" cy="765360"/>
          </a:xfrm>
        </p:grpSpPr>
        <p:sp>
          <p:nvSpPr>
            <p:cNvPr id="130" name=""/>
            <p:cNvSpPr/>
            <p:nvPr/>
          </p:nvSpPr>
          <p:spPr>
            <a:xfrm>
              <a:off x="1154160" y="5407200"/>
              <a:ext cx="58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2840" y="5407200"/>
              <a:ext cx="58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7792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880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196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0208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472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340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7920" y="540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972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716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8104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992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840" y="5235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608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740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9864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3884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36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80720" y="5203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120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790720" y="5229360"/>
            <a:ext cx="2711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rezystancja wyjściow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0960" y="5859360"/>
            <a:ext cx="1034640" cy="736920"/>
            <a:chOff x="390960" y="5859360"/>
            <a:chExt cx="1034640" cy="736920"/>
          </a:xfrm>
        </p:grpSpPr>
        <p:sp>
          <p:nvSpPr>
            <p:cNvPr id="153" name=""/>
            <p:cNvSpPr/>
            <p:nvPr/>
          </p:nvSpPr>
          <p:spPr>
            <a:xfrm>
              <a:off x="795240" y="6208560"/>
              <a:ext cx="63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868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864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2660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748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2920" y="6245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3080" y="6245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2920" y="585936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4000" y="58593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3160" y="60055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0960" y="60055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493280" y="6033960"/>
            <a:ext cx="290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sprawność energetyczn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0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32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3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257800" y="1386000"/>
            <a:ext cx="2981160" cy="1620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512600" y="1476360"/>
            <a:ext cx="148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Źródło prąd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286240" y="3914640"/>
            <a:ext cx="2981520" cy="1917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016840" y="2436840"/>
            <a:ext cx="457200" cy="1770120"/>
          </a:xfrm>
          <a:custGeom>
            <a:avLst/>
            <a:gdLst/>
            <a:ahLst/>
            <a:rect l="l" t="t" r="r" b="b"/>
            <a:pathLst>
              <a:path w="288" h="1115">
                <a:moveTo>
                  <a:pt x="140" y="0"/>
                </a:moveTo>
                <a:cubicBezTo>
                  <a:pt x="198" y="75"/>
                  <a:pt x="256" y="151"/>
                  <a:pt x="272" y="265"/>
                </a:cubicBezTo>
                <a:cubicBezTo>
                  <a:pt x="288" y="379"/>
                  <a:pt x="278" y="544"/>
                  <a:pt x="233" y="686"/>
                </a:cubicBezTo>
                <a:cubicBezTo>
                  <a:pt x="188" y="828"/>
                  <a:pt x="40" y="1044"/>
                  <a:pt x="0" y="111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8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2944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8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2959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7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2968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0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2985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2991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3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2999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1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3029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1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3037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1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3042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3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3044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6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3059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7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3068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0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3100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2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2400" y="556272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4680" y="3887640"/>
            <a:ext cx="2354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53760" y="63309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34360" y="6203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06760" y="1572840"/>
            <a:ext cx="0" cy="463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919840" y="1576440"/>
            <a:ext cx="0" cy="4651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75080" y="38476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75080" y="622296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55720" y="1181160"/>
            <a:ext cx="244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5760" y="3564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77960" y="1649520"/>
            <a:ext cx="3340080" cy="1954080"/>
          </a:xfrm>
          <a:custGeom>
            <a:avLst/>
            <a:gdLst/>
            <a:ahLst/>
            <a:rect l="l" t="t" r="r" b="b"/>
            <a:pathLst>
              <a:path w="2104" h="1231">
                <a:moveTo>
                  <a:pt x="0" y="1231"/>
                </a:moveTo>
                <a:lnTo>
                  <a:pt x="998" y="70"/>
                </a:lnTo>
                <a:lnTo>
                  <a:pt x="1107" y="8"/>
                </a:lnTo>
                <a:lnTo>
                  <a:pt x="2104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0200" y="35845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12283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36036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3280" y="4354560"/>
            <a:ext cx="3376800" cy="1832040"/>
          </a:xfrm>
          <a:custGeom>
            <a:avLst/>
            <a:gdLst/>
            <a:ahLst/>
            <a:rect l="l" t="t" r="r" b="b"/>
            <a:pathLst>
              <a:path w="2127" h="1154">
                <a:moveTo>
                  <a:pt x="0" y="0"/>
                </a:moveTo>
                <a:lnTo>
                  <a:pt x="896" y="16"/>
                </a:lnTo>
                <a:lnTo>
                  <a:pt x="1036" y="31"/>
                </a:lnTo>
                <a:lnTo>
                  <a:pt x="1075" y="125"/>
                </a:lnTo>
                <a:lnTo>
                  <a:pt x="1083" y="226"/>
                </a:lnTo>
                <a:lnTo>
                  <a:pt x="1106" y="1068"/>
                </a:lnTo>
                <a:lnTo>
                  <a:pt x="1153" y="1146"/>
                </a:lnTo>
                <a:lnTo>
                  <a:pt x="2127" y="1154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8840" y="3986280"/>
            <a:ext cx="1245240" cy="765360"/>
            <a:chOff x="708840" y="3986280"/>
            <a:chExt cx="1245240" cy="765360"/>
          </a:xfrm>
        </p:grpSpPr>
        <p:sp>
          <p:nvSpPr>
            <p:cNvPr id="182" name=""/>
            <p:cNvSpPr/>
            <p:nvPr/>
          </p:nvSpPr>
          <p:spPr>
            <a:xfrm>
              <a:off x="1368360" y="4363920"/>
              <a:ext cx="585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4040" y="456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2600" y="41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1480" y="4359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4640" y="4402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66720" y="40165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840" y="4192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6440" y="4371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6720" y="3986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2240" y="4162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405320" y="5319720"/>
            <a:ext cx="1533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03640" y="2474640"/>
            <a:ext cx="309600" cy="408240"/>
            <a:chOff x="3203640" y="2474640"/>
            <a:chExt cx="309600" cy="408240"/>
          </a:xfrm>
        </p:grpSpPr>
        <p:sp>
          <p:nvSpPr>
            <p:cNvPr id="194" name=""/>
            <p:cNvSpPr/>
            <p:nvPr/>
          </p:nvSpPr>
          <p:spPr>
            <a:xfrm>
              <a:off x="3203640" y="2882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513240" y="247464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29080" y="2082600"/>
            <a:ext cx="309600" cy="408240"/>
            <a:chOff x="3529080" y="2082600"/>
            <a:chExt cx="309600" cy="408240"/>
          </a:xfrm>
        </p:grpSpPr>
        <p:sp>
          <p:nvSpPr>
            <p:cNvPr id="197" name=""/>
            <p:cNvSpPr/>
            <p:nvPr/>
          </p:nvSpPr>
          <p:spPr>
            <a:xfrm>
              <a:off x="3529080" y="2490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38680" y="208260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638440" y="3134880"/>
            <a:ext cx="309600" cy="408240"/>
            <a:chOff x="2638440" y="3134880"/>
            <a:chExt cx="309600" cy="408240"/>
          </a:xfrm>
        </p:grpSpPr>
        <p:sp>
          <p:nvSpPr>
            <p:cNvPr id="200" name=""/>
            <p:cNvSpPr/>
            <p:nvPr/>
          </p:nvSpPr>
          <p:spPr>
            <a:xfrm>
              <a:off x="2638440" y="3543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948040" y="313488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V="1">
            <a:off x="3068640" y="298116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75120" y="190980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75160" y="2771640"/>
            <a:ext cx="323640" cy="1508400"/>
          </a:xfrm>
          <a:custGeom>
            <a:avLst/>
            <a:gdLst/>
            <a:ahLst/>
            <a:rect l="l" t="t" r="r" b="b"/>
            <a:pathLst>
              <a:path w="204" h="950">
                <a:moveTo>
                  <a:pt x="0" y="0"/>
                </a:moveTo>
                <a:cubicBezTo>
                  <a:pt x="93" y="88"/>
                  <a:pt x="186" y="177"/>
                  <a:pt x="195" y="335"/>
                </a:cubicBezTo>
                <a:cubicBezTo>
                  <a:pt x="204" y="493"/>
                  <a:pt x="81" y="844"/>
                  <a:pt x="55" y="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2662200" y="923760"/>
            <a:ext cx="73080" cy="2750760"/>
            <a:chOff x="2662200" y="923760"/>
            <a:chExt cx="73080" cy="2750760"/>
          </a:xfrm>
        </p:grpSpPr>
        <p:sp>
          <p:nvSpPr>
            <p:cNvPr id="206" name=""/>
            <p:cNvSpPr/>
            <p:nvPr/>
          </p:nvSpPr>
          <p:spPr>
            <a:xfrm flipV="1">
              <a:off x="2696760" y="1003680"/>
              <a:ext cx="1080" cy="267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2200" y="923760"/>
              <a:ext cx="73080" cy="89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29" y="0"/>
                  </a:lnTo>
                  <a:lnTo>
                    <a:pt x="0" y="67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495520" y="932040"/>
            <a:ext cx="1587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5760" y="868320"/>
            <a:ext cx="6426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1960" y="901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8200" y="9018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7480" y="3613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99640" y="552780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7880" y="3876840"/>
            <a:ext cx="231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560" y="6319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70440" y="619272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24240" y="1425240"/>
            <a:ext cx="0" cy="478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56280" y="402696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11520" y="38365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1520" y="62118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97120" y="367524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05040" y="1397160"/>
            <a:ext cx="3332160" cy="1744560"/>
          </a:xfrm>
          <a:custGeom>
            <a:avLst/>
            <a:gdLst/>
            <a:ahLst/>
            <a:rect l="l" t="t" r="r" b="b"/>
            <a:pathLst>
              <a:path w="2099" h="1099">
                <a:moveTo>
                  <a:pt x="0" y="0"/>
                </a:moveTo>
                <a:lnTo>
                  <a:pt x="880" y="24"/>
                </a:lnTo>
                <a:lnTo>
                  <a:pt x="972" y="24"/>
                </a:lnTo>
                <a:lnTo>
                  <a:pt x="1039" y="40"/>
                </a:lnTo>
                <a:lnTo>
                  <a:pt x="1104" y="84"/>
                </a:lnTo>
                <a:lnTo>
                  <a:pt x="1180" y="156"/>
                </a:lnTo>
                <a:lnTo>
                  <a:pt x="2020" y="1024"/>
                </a:lnTo>
                <a:lnTo>
                  <a:pt x="2099" y="1099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20880" y="4849920"/>
            <a:ext cx="3303720" cy="1363680"/>
          </a:xfrm>
          <a:custGeom>
            <a:avLst/>
            <a:gdLst/>
            <a:ahLst/>
            <a:rect l="l" t="t" r="r" b="b"/>
            <a:pathLst>
              <a:path w="2081" h="859">
                <a:moveTo>
                  <a:pt x="0" y="834"/>
                </a:moveTo>
                <a:cubicBezTo>
                  <a:pt x="317" y="837"/>
                  <a:pt x="651" y="828"/>
                  <a:pt x="803" y="826"/>
                </a:cubicBezTo>
                <a:cubicBezTo>
                  <a:pt x="955" y="824"/>
                  <a:pt x="876" y="834"/>
                  <a:pt x="910" y="821"/>
                </a:cubicBezTo>
                <a:cubicBezTo>
                  <a:pt x="944" y="808"/>
                  <a:pt x="985" y="859"/>
                  <a:pt x="1006" y="748"/>
                </a:cubicBezTo>
                <a:lnTo>
                  <a:pt x="1037" y="156"/>
                </a:lnTo>
                <a:lnTo>
                  <a:pt x="1054" y="81"/>
                </a:lnTo>
                <a:lnTo>
                  <a:pt x="1099" y="39"/>
                </a:lnTo>
                <a:cubicBezTo>
                  <a:pt x="1270" y="26"/>
                  <a:pt x="1677" y="6"/>
                  <a:pt x="2081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1160" y="4179960"/>
            <a:ext cx="1411200" cy="733680"/>
            <a:chOff x="911160" y="4179960"/>
            <a:chExt cx="1411200" cy="733680"/>
          </a:xfrm>
        </p:grpSpPr>
        <p:sp>
          <p:nvSpPr>
            <p:cNvPr id="226" name=""/>
            <p:cNvSpPr/>
            <p:nvPr/>
          </p:nvSpPr>
          <p:spPr>
            <a:xfrm>
              <a:off x="1734840" y="4527360"/>
              <a:ext cx="58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1840" y="4730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0520" y="434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85400" y="452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2080" y="4552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3040" y="417996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1160" y="43560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8440" y="4324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4324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14760" y="532296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V="1">
            <a:off x="804960" y="12780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0800" y="3664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960" y="1800360"/>
            <a:ext cx="4329000" cy="645840"/>
          </a:xfrm>
          <a:custGeom>
            <a:avLst/>
            <a:gdLst/>
            <a:ahLst/>
            <a:rect l="l" t="t" r="r" b="b"/>
            <a:pathLst>
              <a:path w="2244" h="319">
                <a:moveTo>
                  <a:pt x="0" y="140"/>
                </a:moveTo>
                <a:lnTo>
                  <a:pt x="366" y="140"/>
                </a:lnTo>
                <a:lnTo>
                  <a:pt x="366" y="0"/>
                </a:lnTo>
                <a:lnTo>
                  <a:pt x="826" y="0"/>
                </a:lnTo>
                <a:lnTo>
                  <a:pt x="826" y="319"/>
                </a:lnTo>
                <a:lnTo>
                  <a:pt x="1379" y="319"/>
                </a:lnTo>
                <a:lnTo>
                  <a:pt x="1379" y="117"/>
                </a:lnTo>
                <a:lnTo>
                  <a:pt x="2244" y="117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0800" y="2643120"/>
            <a:ext cx="4119480" cy="843120"/>
          </a:xfrm>
          <a:custGeom>
            <a:avLst/>
            <a:gdLst/>
            <a:ahLst/>
            <a:rect l="l" t="t" r="r" b="b"/>
            <a:pathLst>
              <a:path w="2595" h="531">
                <a:moveTo>
                  <a:pt x="0" y="235"/>
                </a:moveTo>
                <a:lnTo>
                  <a:pt x="435" y="235"/>
                </a:lnTo>
                <a:lnTo>
                  <a:pt x="443" y="153"/>
                </a:lnTo>
                <a:lnTo>
                  <a:pt x="449" y="21"/>
                </a:lnTo>
                <a:lnTo>
                  <a:pt x="464" y="0"/>
                </a:lnTo>
                <a:lnTo>
                  <a:pt x="476" y="81"/>
                </a:lnTo>
                <a:lnTo>
                  <a:pt x="500" y="150"/>
                </a:lnTo>
                <a:lnTo>
                  <a:pt x="536" y="219"/>
                </a:lnTo>
                <a:lnTo>
                  <a:pt x="1004" y="235"/>
                </a:lnTo>
                <a:lnTo>
                  <a:pt x="1010" y="531"/>
                </a:lnTo>
                <a:lnTo>
                  <a:pt x="1025" y="369"/>
                </a:lnTo>
                <a:lnTo>
                  <a:pt x="1042" y="295"/>
                </a:lnTo>
                <a:lnTo>
                  <a:pt x="1070" y="237"/>
                </a:lnTo>
                <a:lnTo>
                  <a:pt x="1686" y="235"/>
                </a:lnTo>
                <a:lnTo>
                  <a:pt x="1694" y="120"/>
                </a:lnTo>
                <a:lnTo>
                  <a:pt x="1715" y="189"/>
                </a:lnTo>
                <a:lnTo>
                  <a:pt x="1754" y="228"/>
                </a:lnTo>
                <a:lnTo>
                  <a:pt x="2595" y="245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8280" y="3408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7160" y="1343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66080" y="2550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08560" y="3538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wiedź impulsowa stabiliza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89640" y="1479600"/>
            <a:ext cx="2886120" cy="1201680"/>
            <a:chOff x="5489640" y="1479600"/>
            <a:chExt cx="2886120" cy="1201680"/>
          </a:xfrm>
        </p:grpSpPr>
        <p:sp>
          <p:nvSpPr>
            <p:cNvPr id="245" name=""/>
            <p:cNvSpPr/>
            <p:nvPr/>
          </p:nvSpPr>
          <p:spPr>
            <a:xfrm>
              <a:off x="5562720" y="14940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44800" y="1535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9960" y="1635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7920" y="196236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91640" y="182556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91640" y="2359080"/>
              <a:ext cx="14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97840" y="1967040"/>
              <a:ext cx="277920" cy="35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33480" y="20433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54080" y="211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96080" y="1670040"/>
              <a:ext cx="146340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6240" y="200196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543640" y="1781280"/>
              <a:ext cx="199800" cy="104760"/>
              <a:chOff x="5543640" y="1781280"/>
              <a:chExt cx="199800" cy="104760"/>
            </a:xfrm>
          </p:grpSpPr>
          <p:sp>
            <p:nvSpPr>
              <p:cNvPr id="257" name=""/>
              <p:cNvSpPr/>
              <p:nvPr/>
            </p:nvSpPr>
            <p:spPr>
              <a:xfrm>
                <a:off x="5543640" y="1825560"/>
                <a:ext cx="199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45160" y="1781280"/>
                <a:ext cx="9792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500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364520" y="1781280"/>
              <a:ext cx="193680" cy="104760"/>
              <a:chOff x="7364520" y="1781280"/>
              <a:chExt cx="193680" cy="104760"/>
            </a:xfrm>
          </p:grpSpPr>
          <p:sp>
            <p:nvSpPr>
              <p:cNvPr id="261" name=""/>
              <p:cNvSpPr/>
              <p:nvPr/>
            </p:nvSpPr>
            <p:spPr>
              <a:xfrm>
                <a:off x="7364520" y="183204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1360" y="178128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558200" y="1825560"/>
              <a:ext cx="198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64520" y="2530440"/>
              <a:ext cx="3920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710480" y="1897200"/>
              <a:ext cx="96840" cy="566640"/>
              <a:chOff x="7710480" y="1897200"/>
              <a:chExt cx="96840" cy="56664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7756560" y="1897200"/>
                <a:ext cx="1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1048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5553000" y="2530440"/>
              <a:ext cx="343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489640" y="1897200"/>
              <a:ext cx="96840" cy="566640"/>
              <a:chOff x="5489640" y="1897200"/>
              <a:chExt cx="96840" cy="56664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5531040" y="1897200"/>
                <a:ext cx="468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964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49756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796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7960" y="2530440"/>
              <a:ext cx="1936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1520" y="14796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73600" y="15145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8760" y="1614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2048040"/>
              <a:ext cx="29988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680" y="2117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43080" y="2194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15280" y="20322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0280" y="2067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98880" y="2168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812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812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756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808200" y="37926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040" y="6178680"/>
            <a:ext cx="722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8200" y="4314960"/>
            <a:ext cx="6217920" cy="1858680"/>
          </a:xfrm>
          <a:custGeom>
            <a:avLst/>
            <a:gdLst/>
            <a:ahLst/>
            <a:rect l="l" t="t" r="r" b="b"/>
            <a:pathLst>
              <a:path w="3917" h="1171">
                <a:moveTo>
                  <a:pt x="0" y="179"/>
                </a:moveTo>
                <a:lnTo>
                  <a:pt x="445" y="179"/>
                </a:lnTo>
                <a:lnTo>
                  <a:pt x="445" y="0"/>
                </a:lnTo>
                <a:lnTo>
                  <a:pt x="1004" y="0"/>
                </a:lnTo>
                <a:lnTo>
                  <a:pt x="1004" y="407"/>
                </a:lnTo>
                <a:lnTo>
                  <a:pt x="1676" y="407"/>
                </a:lnTo>
                <a:lnTo>
                  <a:pt x="1676" y="149"/>
                </a:lnTo>
                <a:lnTo>
                  <a:pt x="2678" y="126"/>
                </a:lnTo>
                <a:lnTo>
                  <a:pt x="2694" y="1171"/>
                </a:lnTo>
                <a:lnTo>
                  <a:pt x="3356" y="1171"/>
                </a:lnTo>
                <a:lnTo>
                  <a:pt x="3917" y="21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238720"/>
            <a:ext cx="6957720" cy="800280"/>
          </a:xfrm>
          <a:custGeom>
            <a:avLst/>
            <a:gdLst/>
            <a:ahLst/>
            <a:rect l="l" t="t" r="r" b="b"/>
            <a:pathLst>
              <a:path w="4383" h="504">
                <a:moveTo>
                  <a:pt x="0" y="243"/>
                </a:moveTo>
                <a:lnTo>
                  <a:pt x="435" y="243"/>
                </a:lnTo>
                <a:lnTo>
                  <a:pt x="441" y="453"/>
                </a:lnTo>
                <a:lnTo>
                  <a:pt x="453" y="417"/>
                </a:lnTo>
                <a:lnTo>
                  <a:pt x="480" y="285"/>
                </a:lnTo>
                <a:lnTo>
                  <a:pt x="546" y="237"/>
                </a:lnTo>
                <a:lnTo>
                  <a:pt x="1004" y="243"/>
                </a:lnTo>
                <a:lnTo>
                  <a:pt x="1008" y="90"/>
                </a:lnTo>
                <a:lnTo>
                  <a:pt x="1029" y="105"/>
                </a:lnTo>
                <a:lnTo>
                  <a:pt x="1047" y="207"/>
                </a:lnTo>
                <a:lnTo>
                  <a:pt x="1110" y="234"/>
                </a:lnTo>
                <a:lnTo>
                  <a:pt x="1686" y="243"/>
                </a:lnTo>
                <a:lnTo>
                  <a:pt x="1686" y="504"/>
                </a:lnTo>
                <a:lnTo>
                  <a:pt x="1707" y="426"/>
                </a:lnTo>
                <a:lnTo>
                  <a:pt x="1737" y="297"/>
                </a:lnTo>
                <a:lnTo>
                  <a:pt x="1761" y="264"/>
                </a:lnTo>
                <a:lnTo>
                  <a:pt x="1806" y="252"/>
                </a:lnTo>
                <a:lnTo>
                  <a:pt x="2676" y="252"/>
                </a:lnTo>
                <a:lnTo>
                  <a:pt x="2688" y="0"/>
                </a:lnTo>
                <a:lnTo>
                  <a:pt x="2706" y="72"/>
                </a:lnTo>
                <a:lnTo>
                  <a:pt x="2730" y="222"/>
                </a:lnTo>
                <a:lnTo>
                  <a:pt x="2778" y="240"/>
                </a:lnTo>
                <a:lnTo>
                  <a:pt x="3357" y="240"/>
                </a:lnTo>
                <a:lnTo>
                  <a:pt x="3366" y="270"/>
                </a:lnTo>
                <a:lnTo>
                  <a:pt x="3384" y="243"/>
                </a:lnTo>
                <a:lnTo>
                  <a:pt x="3411" y="237"/>
                </a:lnTo>
                <a:lnTo>
                  <a:pt x="4383" y="238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95680" y="588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9400" y="38448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58160" y="5154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240" y="27273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720" y="1841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1480" y="5378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3760" y="4351320"/>
            <a:ext cx="45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1108080"/>
            <a:ext cx="5588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 napięcie wyjś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 (setki 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6560" y="4794120"/>
            <a:ext cx="2859120" cy="2036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62080" y="4178160"/>
            <a:ext cx="1528560" cy="2169720"/>
            <a:chOff x="1162080" y="4178160"/>
            <a:chExt cx="1528560" cy="2169720"/>
          </a:xfrm>
        </p:grpSpPr>
        <p:sp>
          <p:nvSpPr>
            <p:cNvPr id="369" name=""/>
            <p:cNvSpPr/>
            <p:nvPr/>
          </p:nvSpPr>
          <p:spPr>
            <a:xfrm>
              <a:off x="1408320" y="4443120"/>
              <a:ext cx="195120" cy="59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62080" y="5358960"/>
              <a:ext cx="72396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514520" y="55191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97240" y="417816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14520" y="504324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14520" y="611784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20880" y="4633560"/>
              <a:ext cx="86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DZ 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5840" y="549072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8440" y="214956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&lt;10omów dla I </a:t>
            </a:r>
            <a:r>
              <a:rPr b="0" lang="pl-PL" sz="2400" spc="-1" strike="noStrike">
                <a:solidFill>
                  <a:srgbClr val="cc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2488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3440" y="773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7600" y="6311880"/>
            <a:ext cx="47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inearyzowany, wielkosygnałowy model diody Z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47680" y="5311800"/>
            <a:ext cx="2107080" cy="579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V8=6,8V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6-03-03T09:51:31Z</dcterms:modified>
  <cp:revision>118</cp:revision>
  <dc:subject/>
  <dc:title>STABILIZATORY NAPIĘĆ</dc:title>
</cp:coreProperties>
</file>